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2.gif" ContentType="image/gif"/>
  <Override PartName="/ppt/media/image9.png" ContentType="image/png"/>
  <Override PartName="/ppt/media/image6.gif" ContentType="image/gif"/>
  <Override PartName="/ppt/media/image16.gif" ContentType="image/gif"/>
  <Override PartName="/ppt/media/image1.wmf" ContentType="image/x-wmf"/>
  <Override PartName="/ppt/media/image15.jpeg" ContentType="image/jpeg"/>
  <Override PartName="/ppt/media/image14.gif" ContentType="image/gif"/>
  <Override PartName="/ppt/media/image5.wmf" ContentType="image/x-wmf"/>
  <Override PartName="/ppt/media/image11.png" ContentType="image/png"/>
  <Override PartName="/ppt/media/image3.png" ContentType="image/png"/>
  <Override PartName="/ppt/media/image4.png" ContentType="image/png"/>
  <Override PartName="/ppt/media/image2.gif" ContentType="image/gif"/>
  <Override PartName="/ppt/media/image8.jpeg" ContentType="image/jpeg"/>
  <Override PartName="/ppt/media/image10.jpeg" ContentType="image/jpeg"/>
  <Override PartName="/ppt/media/image7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FA61-8983-4A38-96AD-72ADD247C27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esentation to revise/introduce simple directions in French KS2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Ou est….? Tournez a droite/a gauche 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– allez tout droit (click to move ghost): tournez a gauche (click to reach pump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ncourage class to repeat and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get class to stand and play ‘Jacques a dit’ (simon says) with tournez a gauche/ a droite/ allez tout dro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ntroduce Halloween vocab. Repeat loud, soft, silly voice, scary voice, different voice for each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then point rapidly to each and class tell you what it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and ghost moves): tournez a droite (click to make ghost move again): then allez tout droit (final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(final one could also be tournez a gauche depending on if you think your class can cope with finding their way around the map that way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: allez tout droit (click ghost moves): tournez a gauche (click to move ghost): allez tout droit (move ghost): tournez a droite (last 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: allez tout droit (click): tournez a gauche (last click to get to c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elicit allez tout droit (click to move ghost): tournez a gauche (click) allez tout droit (click) tournez a gauche (last click to reach witc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C900-9C62-4D19-AFAC-4CC147364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0012-8FA2-4866-AD33-985F95D2C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28B0-D33A-4B91-AB66-AF7E33C60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8461-D0E2-4436-B251-41C1A3959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89D9-A360-4A6E-8301-A5781C30D6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773C7-3AF6-4928-AA28-E2714D985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77E17-C7FD-4188-91B2-92E11E2E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E01AC-AF93-4DAC-A2CB-92F6BAEF7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C8493-4DB7-45B3-A119-5C1AFED23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CDDAB-FE69-4F77-A7EB-FFD5EA3F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B23A-C44D-4999-AB29-87BCA8753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789-FDFC-468D-ADF9-07CC31F05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1C836-8A23-44DD-9447-3CD5318D1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EC16-3C94-4A3D-A230-A1FCE717F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4DA11-9513-4C59-AD26-657B70B85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4DCD8-3C9F-4D58-859A-4338F455F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C9FDB-B16D-4B38-ADC4-CC1901564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F29E6-75F0-4200-ADBF-8C157364F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9879AE-26ED-4D7E-B98D-72743561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0ED28-C7FC-4CD6-9422-D076C6BD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B8D70-F465-402B-87EF-2C84AC35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AE08D-C39C-452D-9712-5FC84FB1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824-9D3E-4F6A-ABE7-EA8E73F8D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78914-8EA2-4E84-9D55-51E87821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532C7-5EFC-4418-B530-612FA7D7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5B87D-7B27-4CD2-B5E8-336B42092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FAFAF1-D140-4B93-82E5-8EFB3330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D3D8EA-6813-46B6-ACD9-605B1C6BD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2722E-1BAB-4BCC-B842-479B9E5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49442-17D5-4BD6-8191-BF0987E4F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E9A02-2E28-40E1-AE2F-4274D8EB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77B58-28E2-4718-BCD8-C4B4E931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922282-5CD9-4A8A-997B-06135EDC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5534-F9D4-4BF2-9995-A67E21905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FFD2-2769-4C00-BB2E-D5889FFD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BC85B-CDD6-4211-8C63-85B40A0F4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5EF96F-921A-45BD-A305-95929557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8C4F9B-6CB3-4410-B4BD-C3CFB190C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66B79-E1D4-46FB-B2CE-F50E57A1D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F7A4A-AA02-45B0-9560-C96618811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B61FE-A3B8-4DD0-B030-D9A11AA02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6435A-16A5-4DDB-AB73-1FCF96CF9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B9427-3663-4EDC-9CF1-241ADEF5B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D845B-7605-462A-9C49-602D0BA19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B764-DF96-4971-826D-0B91F492E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CB201A-37CC-41B5-982A-DCB9D2718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868E7-2DD7-41ED-A5CF-2C9E089D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B37DA-2669-4C85-AD1B-64EE75C45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29E490-CA3B-4DD9-A081-BB877DD4F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B9C21-1FB7-4741-A402-55F51A012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CBC67-5A2A-4CE3-B024-32A82494B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498D5-4F40-4F6A-A981-C33DE56D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36996-4F9B-41BF-95B6-541C93683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344704-604A-4683-8B7C-5AF9CB67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2170C-7BCF-4E64-8FAD-B68C9650C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4484-3E90-4001-9E10-D949029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B8B31B-F553-48F9-A426-E41CA0A8B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EDB7B1-D814-440A-B525-6C6D77285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208407-DBE1-434A-A150-271AA1CEC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AABC02-3308-41D5-99C0-1606A47C9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51B256-7F4B-4BB7-ADC0-09C5635DD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107A3-42CF-4DA3-8358-901AC12A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DB8F7-75C2-4E6F-A6A9-C61EE8D1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2F93D-00CD-431A-BFAA-9D5907E4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1722B-72C1-48FD-8331-1901BEEE4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AC9E4A-6A7F-4376-98F4-40E2D748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555-EB0F-4834-A920-C3A8E6EC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0D0431-0DE2-43BE-8638-27168E1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4D30C3-DFD1-43C8-8968-EB6FCA7CF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E52B2C-BCE2-4C59-9372-94080590F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E9AC-A0BC-470D-BFB4-C8079AA1F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4B0F-E553-41D7-A2FD-8A3DC135A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DFBE5-60E7-4A21-8DEA-CD04906F3CB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FBD3F-EBB3-4EAF-83BA-08E4B63AD65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F5ED-49DD-4866-946A-B590193FBFE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E3B31-33BA-4B54-A084-61098986E80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984E8-FD52-49CA-8514-B522D130226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0AC-EABD-4B5A-B8A2-13017CBD6E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-11160" y="-11160"/>
            <a:ext cx="9166320" cy="6880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5.jpe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1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image" Target="../media/image2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’Hallow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1371600" y="4149720"/>
            <a:ext cx="64008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(O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 est…..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5796000" y="476280"/>
            <a:ext cx="2448000" cy="2448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7651800" y="4869000"/>
            <a:ext cx="1492200" cy="19890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92200" cy="198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72" name="" descr=""/>
          <p:cNvPicPr/>
          <p:nvPr/>
        </p:nvPicPr>
        <p:blipFill>
          <a:blip r:embed="rId2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citrouil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3572 E">
                                      <p:cBhvr>
                                        <p:cTn id="128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3572 L -0.50382 0.33572 E">
                                      <p:cBhvr>
                                        <p:cTn id="132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88740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gauch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42920" y="2155680"/>
            <a:ext cx="6624720" cy="32054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 rot="10300800">
            <a:off x="3419280" y="5084640"/>
            <a:ext cx="4027320" cy="6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" dur="2000" fill="hold"/>
                                        <p:tgtEl>
                                          <p:spTgt spid="2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tournez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à dro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2521080" y="1800360"/>
            <a:ext cx="4392360" cy="43210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4360" y="5516640"/>
            <a:ext cx="380988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3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allez tout dro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2987640" y="1700280"/>
            <a:ext cx="3205080" cy="4491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 rot="16200000">
            <a:off x="792000" y="3679200"/>
            <a:ext cx="3809880" cy="5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animClr clrSpc="rgb">
                                      <p:cBhvr>
                                        <p:cTn id="3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1" dur="3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32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867280" y="692280"/>
            <a:ext cx="1614600" cy="17557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1874880" y="620640"/>
            <a:ext cx="1224000" cy="218592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3"/>
          <a:stretch/>
        </p:blipFill>
        <p:spPr>
          <a:xfrm>
            <a:off x="1258920" y="3789360"/>
            <a:ext cx="2433600" cy="218772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651640" y="4005360"/>
            <a:ext cx="2160360" cy="19033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1403640" y="278136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a sorciè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405080" y="6021360"/>
            <a:ext cx="209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a citroui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581080" y="6021360"/>
            <a:ext cx="21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e chat noi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653080" y="2565360"/>
            <a:ext cx="20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00"/>
                </a:solidFill>
                <a:latin typeface="Arial"/>
              </a:rPr>
              <a:t>le fantô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8028000" y="1197000"/>
            <a:ext cx="884160" cy="1384200"/>
          </a:xfrm>
          <a:prstGeom prst="rect">
            <a:avLst/>
          </a:prstGeom>
          <a:ln w="0">
            <a:noFill/>
          </a:ln>
        </p:spPr>
      </p:pic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3276720" y="5805360"/>
            <a:ext cx="86364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0.03144 L 0.05503 -0.20971 E">
                                      <p:cBhvr>
                                        <p:cTn id="60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03 -0.20971 L 0.42517 -0.20971 E">
                                      <p:cBhvr>
                                        <p:cTn id="64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17 -0.20971 L 0.42517 -0.57688 E">
                                      <p:cBhvr>
                                        <p:cTn id="68" dur="5000" fill="hold"/>
                                        <p:tgtEl>
                                          <p:spTgt spid="2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2124000" y="1484280"/>
            <a:ext cx="1125720" cy="109692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3419640" y="5950080"/>
            <a:ext cx="71892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0.02891 L 0.05539 -0.23075 E">
                                      <p:cBhvr>
                                        <p:cTn id="74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539 -0.23075 L -0.25972 -0.23075 E">
                                      <p:cBhvr>
                                        <p:cTn id="78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23075 L -0.25972 -0.51375 E">
                                      <p:cBhvr>
                                        <p:cTn id="82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72 -0.51375 L -0.10225 -0.51375 E">
                                      <p:cBhvr>
                                        <p:cTn id="86" dur="5000" fill="hold"/>
                                        <p:tgtEl>
                                          <p:spTgt spid="3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e chat no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0" y="335772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/>
          <p:cNvPicPr/>
          <p:nvPr/>
        </p:nvPicPr>
        <p:blipFill>
          <a:blip r:embed="rId2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32532 E">
                                      <p:cBhvr>
                                        <p:cTn id="92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32532 L -0.59045 0.32532 E">
                                      <p:cBhvr>
                                        <p:cTn id="96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045 0.32532 L -0.59826 0.60832 E">
                                      <p:cBhvr>
                                        <p:cTn id="100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59826 0.60832 L -0.68489 0.60832 E">
                                      <p:cBhvr>
                                        <p:cTn id="104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1763640" y="5526000"/>
            <a:ext cx="1881360" cy="13320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0" y="26370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692360" y="306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851280" y="2637000"/>
            <a:ext cx="35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8036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500720" y="501336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99564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118728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450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692360" y="4508640"/>
            <a:ext cx="568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5013360"/>
            <a:ext cx="39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 flipV="1">
            <a:off x="4500720" y="5013360"/>
            <a:ext cx="0" cy="1844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 flipV="1">
            <a:off x="1692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 flipV="1">
            <a:off x="7380360" y="3068640"/>
            <a:ext cx="0" cy="14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V="1">
            <a:off x="7956720" y="-36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956720" y="3068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956720" y="2637000"/>
            <a:ext cx="1187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956720" y="3068640"/>
            <a:ext cx="11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27672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851280" y="0"/>
            <a:ext cx="0" cy="2637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260280"/>
            <a:ext cx="4105080" cy="5814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O</a:t>
            </a:r>
            <a:r>
              <a:rPr b="1" lang="en-US" sz="3200" spc="-1" strike="noStrike">
                <a:solidFill>
                  <a:srgbClr val="ff6600"/>
                </a:solidFill>
                <a:latin typeface="Arial"/>
                <a:ea typeface="Arial"/>
              </a:rPr>
              <a:t>ù</a:t>
            </a:r>
            <a:r>
              <a:rPr b="1" lang="fr-FR" sz="3200" spc="-1" strike="noStrike">
                <a:solidFill>
                  <a:srgbClr val="ff6600"/>
                </a:solidFill>
                <a:latin typeface="Arial"/>
              </a:rPr>
              <a:t> est la sorciè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508720" y="3429000"/>
            <a:ext cx="1125360" cy="10969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719280" cy="71892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/>
          <p:cNvPicPr/>
          <p:nvPr/>
        </p:nvPicPr>
        <p:blipFill>
          <a:blip r:embed="rId4"/>
          <a:stretch/>
        </p:blipFill>
        <p:spPr>
          <a:xfrm>
            <a:off x="1908000" y="1484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-0.04185 L 0.07882 0.60832 E">
                                      <p:cBhvr>
                                        <p:cTn id="110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7882 0.60832 L -0.28333 0.60832 E">
                                      <p:cBhvr>
                                        <p:cTn id="114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60832 L -0.28333 0.81826 E">
                                      <p:cBhvr>
                                        <p:cTn id="118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81826 L -0.36996 0.81826 E">
                                      <p:cBhvr>
                                        <p:cTn id="122" dur="5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7T16:43:28Z</dcterms:created>
  <dc:creator>Jo Rhys-Jones</dc:creator>
  <dc:description>Macro created by quiz@ppt-user.de  Hans Werner Hofmann / Ute Simon</dc:description>
  <cp:keywords>Search Easter Eggs with Drag&amp;Drop-Makro</cp:keywords>
  <dc:language>en-US</dc:language>
  <cp:lastModifiedBy>Valued Acer Customer</cp:lastModifiedBy>
  <dcterms:modified xsi:type="dcterms:W3CDTF">2007-10-20T11:48:01Z</dcterms:modified>
  <cp:revision>152</cp:revision>
  <dc:subject/>
  <dc:title>Drag&amp;Drop Macro: Easter Eggs</dc:title>
</cp:coreProperties>
</file>